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0CA9-24B8-4421-A09A-874B3FCA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557F-6E10-4C99-B89E-985472D6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8C2E-46BE-4658-855B-DB0327F3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AC4D-15AA-4820-A9E1-0083DF62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C13C-1373-4655-94D2-7DA5424F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0BA2-AA1D-470F-ABB1-E501E164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487E-2313-45DE-B879-8D363248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33A5-B3F9-4DD2-88F2-02626920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39D5-BC27-4005-9C0D-AB1B7E5A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2540-BC2C-47BF-85D0-260E5A3F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95B6-26AE-4A04-9973-4643F7CC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B1B2-7150-4FFF-AE5F-0022C808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37B6-05F9-4014-AD83-530FED1E6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Las Com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yu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4419720"/>
            <a:ext cx="2514600" cy="1674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14600" y="41148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pas frita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078600"/>
            <a:ext cx="1752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c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886200" y="4419720"/>
            <a:ext cx="2590920" cy="1901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705720" y="5257800"/>
            <a:ext cx="198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5064120"/>
            <a:ext cx="2705040" cy="1793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2819520"/>
            <a:ext cx="2743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5:27:54Z</dcterms:created>
  <dc:creator>wilsonaleah</dc:creator>
  <dc:description/>
  <dc:language>en-US</dc:language>
  <cp:lastModifiedBy>wilsonaleah</cp:lastModifiedBy>
  <dcterms:modified xsi:type="dcterms:W3CDTF">2012-04-05T14:08:17Z</dcterms:modified>
  <cp:revision>4</cp:revision>
  <dc:subject/>
  <dc:title>Las Comidas</dc:title>
</cp:coreProperties>
</file>